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C369-FD7E-4AB7-8517-08C3CEC6E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FDDE-F160-4158-8F21-8341CE7D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986-72CA-4B1C-A3F0-E1FAF91A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493F-F13F-4820-9614-484BC5F7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5621-CAF1-4F50-A4CC-3A98763C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DEF-4AEF-4958-8A5D-C5155789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3BC4-1293-480B-850E-83A81E31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332A-0EF1-4831-9254-A050DC09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447-6B82-4BF7-81C8-8E39D308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385-41AE-4749-9A56-564A5CDF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80F0-6D2F-41A8-8F3F-DCC8A0B7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D1F-D097-401E-AC05-72016CAB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A73-0788-42A8-9D82-B8E68972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CD1B-A6B8-483B-8689-1DF6C4370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 Bo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Kathy S. 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Œ2001 Kathy S. White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429000" y="1752480"/>
          <a:ext cx="181440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752480"/>
                    <a:ext cx="18144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ig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valentine, just for 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905120" y="1828800"/>
          <a:ext cx="5257800" cy="44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28800"/>
                    <a:ext cx="525780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76520" y="1752480"/>
            <a:ext cx="52862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En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l came, and I got a bo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95280" y="3429000"/>
          <a:ext cx="181476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429000"/>
                    <a:ext cx="18147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733920" y="1905120"/>
          <a:ext cx="4876560" cy="44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905120"/>
                    <a:ext cx="48765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opened the box, and said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 What could it be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76520" y="1981080"/>
          <a:ext cx="5105160" cy="34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510516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553080" y="3429000"/>
          <a:ext cx="214956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3429000"/>
                    <a:ext cx="21495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now let’s se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362320" y="2286000"/>
          <a:ext cx="4260600" cy="34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286000"/>
                    <a:ext cx="426060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ircle?  N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3886200"/>
            <a:ext cx="1904760" cy="1447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191120" y="2514600"/>
          <a:ext cx="441936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514600"/>
                    <a:ext cx="441936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quare?  N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191120" y="2514600"/>
          <a:ext cx="441936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514600"/>
                    <a:ext cx="441936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143000" y="3809880"/>
            <a:ext cx="1676520" cy="1447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amond?  N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191120" y="2514600"/>
          <a:ext cx="441936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514600"/>
                    <a:ext cx="441936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371600" y="3962520"/>
            <a:ext cx="2743200" cy="15238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iangle?  N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191120" y="2514600"/>
          <a:ext cx="441936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514600"/>
                    <a:ext cx="441936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447920" y="3276720"/>
            <a:ext cx="2057400" cy="22096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ould it be just special for 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676520" y="1981080"/>
          <a:ext cx="5105160" cy="34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510516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17:45:51Z</dcterms:created>
  <dc:creator>SDJ</dc:creator>
  <dc:description/>
  <dc:language>en-US</dc:language>
  <cp:lastModifiedBy> </cp:lastModifiedBy>
  <dcterms:modified xsi:type="dcterms:W3CDTF">2005-01-27T19:39:21Z</dcterms:modified>
  <cp:revision>8</cp:revision>
  <dc:subject/>
  <dc:title>The Box</dc:title>
</cp:coreProperties>
</file>